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4.png" ContentType="image/png"/>
  <Override PartName="/ppt/media/image2.jpeg" ContentType="image/jpeg"/>
  <Override PartName="/ppt/media/image5.wmf" ContentType="image/x-wmf"/>
  <Override PartName="/ppt/media/image6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0FEFFEF-92FD-4B49-B21F-678B63AE7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22948E8-A29F-41C8-B59B-9AF15EFA1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47E2358-1C92-424C-9765-43C4661E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7030577-A3C2-4410-8094-809EC4D6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7B012AB-EC1E-468B-BB41-9B728DE7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3FC9641-D3EA-408F-94F9-7C4578F7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A513183-64B3-4117-92C0-0768631D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C704C44-DE29-4417-AFA0-69606D88D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E8CBDC-7A8D-46B8-BD80-D7A2EE2BF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A735510-2B39-4419-91A2-80CAA392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4DF5692-ADA7-42B6-BB95-326A58DE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2B6294F-75BE-4763-BB0B-BEF06D905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29CC247-E61D-4BD7-A3B4-3ED00DE1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the power point presentation will cover to give the students an idea of the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592A0DC-A30C-4B7A-9857-CE76BFCC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DD2CA6B-29A1-4C84-9645-AF6CC45E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A4659F7-54D0-4F8C-889B-5DDE2386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69110E7-3282-4304-9CF1-5B3392DC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6FE2BDB-826C-4A51-9D23-E8BDE326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0C9D84-629F-480A-BFFF-3FAA1AEEF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" name="Line 17"/>
          <p:cNvSpPr/>
          <p:nvPr/>
        </p:nvSpPr>
        <p:spPr>
          <a:xfrm>
            <a:off x="1066680" y="624852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8"/>
          <p:cNvSpPr/>
          <p:nvPr/>
        </p:nvSpPr>
        <p:spPr>
          <a:xfrm>
            <a:off x="7924680" y="136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7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24"/>
          <p:cNvSpPr/>
          <p:nvPr/>
        </p:nvSpPr>
        <p:spPr>
          <a:xfrm>
            <a:off x="1523880" y="6324480"/>
            <a:ext cx="63248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© Family Economics &amp; Financial Education – Revised May 2010 – Depository Institutions Unit – Depository Institutions – Slide </a:t>
            </a:r>
            <a:fld id="{1AF47776-B50F-4F3E-B507-B45AD684D46D}" type="slidenum">
              <a:rPr b="0" lang="en-US" sz="900" spc="-1" strike="noStrike">
                <a:solidFill>
                  <a:srgbClr val="000000"/>
                </a:solidFill>
                <a:latin typeface="Centau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aur"/>
              </a:rPr>
              <a:t>Funded by a grant from Take Charge America, Inc. to the Norton School of Family and Consumer Sciences at the University of Arizo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23"/>
          <p:cNvGrpSpPr/>
          <p:nvPr/>
        </p:nvGrpSpPr>
        <p:grpSpPr>
          <a:xfrm>
            <a:off x="609480" y="6400800"/>
            <a:ext cx="8267760" cy="228600"/>
            <a:chOff x="609480" y="6400800"/>
            <a:chExt cx="8267760" cy="228600"/>
          </a:xfrm>
        </p:grpSpPr>
        <p:pic>
          <p:nvPicPr>
            <p:cNvPr id="16" name="Picture 16" descr="UA-horiz blk"/>
            <p:cNvPicPr/>
            <p:nvPr/>
          </p:nvPicPr>
          <p:blipFill>
            <a:blip r:embed="rId2"/>
            <a:stretch/>
          </p:blipFill>
          <p:spPr>
            <a:xfrm>
              <a:off x="609480" y="6400800"/>
              <a:ext cx="81432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" name="Picture 3" descr="TCA-New-Logo-3-color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95000" y="6400800"/>
              <a:ext cx="118224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Line 21"/>
          <p:cNvSpPr/>
          <p:nvPr/>
        </p:nvSpPr>
        <p:spPr>
          <a:xfrm>
            <a:off x="1066680" y="6381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7924680" y="13644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aur"/>
              </a:rPr>
              <a:t>1.7.3.G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R:\Templates &amp; Logos\Logos\FEFE Logos from Debra Bowles\FEFE Logo Clear Background.png"/>
          <p:cNvPicPr/>
          <p:nvPr/>
        </p:nvPicPr>
        <p:blipFill>
          <a:blip r:embed="rId2"/>
          <a:stretch/>
        </p:blipFill>
        <p:spPr>
          <a:xfrm>
            <a:off x="3886200" y="5638680"/>
            <a:ext cx="1066680" cy="59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:\TCAI\Templates &amp; Logos\Logos\TCAI ICON_final.png"/>
          <p:cNvPicPr/>
          <p:nvPr/>
        </p:nvPicPr>
        <p:blipFill>
          <a:blip r:embed="rId3"/>
          <a:stretch/>
        </p:blipFill>
        <p:spPr>
          <a:xfrm>
            <a:off x="6400800" y="5867280"/>
            <a:ext cx="1690560" cy="311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Copperplate Gothic Light"/>
              </a:rPr>
              <a:t>Depository Institutions</a:t>
            </a:r>
            <a:endParaRPr b="0" lang="en-US" sz="47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aur"/>
              </a:rPr>
              <a:t>Take Charge of Your Finances 1.7.3</a:t>
            </a:r>
            <a:endParaRPr b="0" lang="en-US" sz="34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Savings and Loan Association (S&amp;Ls)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avings and Loan Associ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cus on providing loans and mortgage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ustomers must have a savings account with them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American Federal Savings Bank, Pioneer Federal Savings &amp; Loan.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3" name="Picture 8" descr="j0287246[1]"/>
          <p:cNvPicPr/>
          <p:nvPr/>
        </p:nvPicPr>
        <p:blipFill>
          <a:blip r:embed="rId1"/>
          <a:stretch/>
        </p:blipFill>
        <p:spPr>
          <a:xfrm>
            <a:off x="7391520" y="4952880"/>
            <a:ext cx="144756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Types of Insurance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ederal government agency which protects depository institution account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Insures commercial banks and savings and loan association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National Credit Union Administration (NCUA)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ovides insurance for credit unions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6" name="Picture 4" descr="FDIC"/>
          <p:cNvPicPr/>
          <p:nvPr/>
        </p:nvPicPr>
        <p:blipFill>
          <a:blip r:embed="rId1"/>
          <a:srcRect l="0" t="0" r="76620" b="0"/>
          <a:stretch/>
        </p:blipFill>
        <p:spPr>
          <a:xfrm>
            <a:off x="7327800" y="2133720"/>
            <a:ext cx="15876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INS-EngHP"/>
          <p:cNvPicPr/>
          <p:nvPr/>
        </p:nvPicPr>
        <p:blipFill>
          <a:blip r:embed="rId2"/>
          <a:stretch/>
        </p:blipFill>
        <p:spPr>
          <a:xfrm>
            <a:off x="7391520" y="4191120"/>
            <a:ext cx="15253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surance Protection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surance protect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ach depositor is insured up to $250,000 for money deposited in a regular account and $250,000 for retirement deposits 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vailable from both FDIC and NCUA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nsurance is important because of the risk of los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Risk of Los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is used to determine which party should be responsible for damage or loss of products after a service transaction has been completed but prior to delivery 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aur"/>
              </a:rPr>
              <a:t>Interest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- the amount of money that is either gained or lost when accessing services offered by a depository institutio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aur"/>
              </a:rPr>
              <a:t>Interest rate</a:t>
            </a: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 - the percentage used annually to calculate the total interest either gained or lost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2971800"/>
          <a:ext cx="7924680" cy="32162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640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Type of accou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nterest ra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ffff"/>
                          </a:solidFill>
                          <a:latin typeface="Centaur"/>
                        </a:rPr>
                        <a:t>Impact on the consum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610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est bearing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ney earned from an investmen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re money earned by the consu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ess money 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10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est bearing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he charge for money that a consumer borrows from a depository instit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More money paid by the consu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ess money p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7d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7924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edit unions typically offer rates which have the most positive impact on the consum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00007d"/>
                      </a:solidFill>
                    </a:lnT>
                    <a:lnB>
                      <a:noFill/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 Service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4" name="Picture 5" descr="j0238034"/>
          <p:cNvPicPr/>
          <p:nvPr/>
        </p:nvPicPr>
        <p:blipFill>
          <a:blip r:embed="rId1"/>
          <a:stretch/>
        </p:blipFill>
        <p:spPr>
          <a:xfrm>
            <a:off x="2971800" y="2971800"/>
            <a:ext cx="33307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ommon Services Offered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6" name="Diagram 4" descr=""/>
          <p:cNvPicPr/>
          <p:nvPr/>
        </p:nvPicPr>
        <p:blipFill>
          <a:blip r:embed="rId1"/>
          <a:stretch/>
        </p:blipFill>
        <p:spPr>
          <a:xfrm>
            <a:off x="993600" y="1590840"/>
            <a:ext cx="754092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 Bearing Account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58" name="Diagram 3" descr=""/>
          <p:cNvPicPr/>
          <p:nvPr/>
        </p:nvPicPr>
        <p:blipFill>
          <a:blip r:embed="rId1"/>
          <a:stretch/>
        </p:blipFill>
        <p:spPr>
          <a:xfrm>
            <a:off x="189000" y="1596960"/>
            <a:ext cx="850428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Interest Bearing Account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Credit Card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A card used to make a purchase now and repay later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f the balance is paid before the grace period ends, interest is not add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If the balance is paid after the grace period, the payment of interest is required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oney borrowed and paid back with interest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Mortgage – loan for a home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19960" indent="-2239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Personal – interest rates vary depending upon type of loan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3" marL="1568160" indent="-22392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aur"/>
              </a:rPr>
              <a:t>Loan types can include vehicle, school, etc.</a:t>
            </a:r>
            <a:endParaRPr b="0" lang="en-US" sz="16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61" name="Picture 6" descr="bs00254_[1]"/>
          <p:cNvPicPr/>
          <p:nvPr/>
        </p:nvPicPr>
        <p:blipFill>
          <a:blip r:embed="rId1"/>
          <a:stretch/>
        </p:blipFill>
        <p:spPr>
          <a:xfrm>
            <a:off x="7315200" y="1600200"/>
            <a:ext cx="1422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Additional Services Which May Be Offered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" y="19810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Safe-Deposi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A secured box in a bank to be used for valuable and important person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Financial Couns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  <a:ea typeface="ＭＳ Ｐゴシック"/>
              </a:rPr>
              <a:t>Information and advice is given to customers to help make financial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http://www.clipperz.com/files/clipperz.com/safe-deposit-box.jpg"/>
          <p:cNvPicPr/>
          <p:nvPr/>
        </p:nvPicPr>
        <p:blipFill>
          <a:blip r:embed="rId1"/>
          <a:stretch/>
        </p:blipFill>
        <p:spPr>
          <a:xfrm>
            <a:off x="5334120" y="3124080"/>
            <a:ext cx="1885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 Gothic Light"/>
              </a:rPr>
              <a:t>Conclusion&amp; Review</a:t>
            </a:r>
            <a:endParaRPr b="0" lang="en-US" sz="5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66" name="Picture 7" descr="j0232784"/>
          <p:cNvPicPr/>
          <p:nvPr/>
        </p:nvPicPr>
        <p:blipFill>
          <a:blip r:embed="rId1"/>
          <a:stretch/>
        </p:blipFill>
        <p:spPr>
          <a:xfrm>
            <a:off x="5292720" y="1219320"/>
            <a:ext cx="270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epository Institution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– businesses which offer multiple services in banking and finance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se institutions include: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Banks 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Savings and Loa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aur"/>
              </a:rPr>
              <a:t>Credit Unions</a:t>
            </a:r>
            <a:endParaRPr b="0" lang="en-US" sz="20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They are regulated by various state and federal agencies 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1" name="Picture 12" descr="j0250894"/>
          <p:cNvPicPr/>
          <p:nvPr/>
        </p:nvPicPr>
        <p:blipFill>
          <a:blip r:embed="rId1"/>
          <a:stretch/>
        </p:blipFill>
        <p:spPr>
          <a:xfrm>
            <a:off x="6477120" y="2743200"/>
            <a:ext cx="225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298440" y="1504800"/>
            <a:ext cx="7516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3" name="Diagram 7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8454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ervices include:</a:t>
            </a:r>
            <a:endParaRPr b="0" lang="en-US" sz="24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Federal Reserve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6" name="Diagram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Federal Reserve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ich federal reserve bank is located in your region?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29" name="Picture 4" descr="usmap3"/>
          <p:cNvPicPr/>
          <p:nvPr/>
        </p:nvPicPr>
        <p:blipFill>
          <a:blip r:embed="rId1"/>
          <a:stretch/>
        </p:blipFill>
        <p:spPr>
          <a:xfrm>
            <a:off x="1447920" y="2297160"/>
            <a:ext cx="67816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Life of a Deposited Chec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1" name="Diagram 5" descr=""/>
          <p:cNvPicPr/>
          <p:nvPr/>
        </p:nvPicPr>
        <p:blipFill>
          <a:blip r:embed="rId1"/>
          <a:stretch/>
        </p:blipFill>
        <p:spPr>
          <a:xfrm>
            <a:off x="231840" y="1504800"/>
            <a:ext cx="8736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Depository Institutions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7" descr="BD19937_[1]"/>
          <p:cNvPicPr/>
          <p:nvPr/>
        </p:nvPicPr>
        <p:blipFill>
          <a:blip r:embed="rId1"/>
          <a:stretch/>
        </p:blipFill>
        <p:spPr>
          <a:xfrm>
            <a:off x="838080" y="2286000"/>
            <a:ext cx="3183120" cy="288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2666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ercial Bank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Un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avings and Loan Associat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ommercial Bank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ommercial Bank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Usually the largest depository institution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nsidered full-service depository institutions 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vailable to a variety of consumers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Wells Fargo, US Bank, Chase Bank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37" name="Picture 4" descr="j0089228[1]"/>
          <p:cNvPicPr/>
          <p:nvPr/>
        </p:nvPicPr>
        <p:blipFill>
          <a:blip r:embed="rId1"/>
          <a:stretch/>
        </p:blipFill>
        <p:spPr>
          <a:xfrm>
            <a:off x="7315200" y="1752480"/>
            <a:ext cx="114300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Light"/>
              </a:rPr>
              <a:t>Credit Union</a:t>
            </a:r>
            <a:endParaRPr b="0" lang="en-US" sz="40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Credit Union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Non-profit cooperative depository institution</a:t>
            </a:r>
            <a:endParaRPr b="0" lang="en-US" sz="28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wned by members who share a common bond 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xamples – Rocky Mountain Credit Union, Teachers Federal Credit Union</a:t>
            </a:r>
            <a:endParaRPr b="0" lang="en-US" sz="3200" spc="-1" strike="noStrike">
              <a:solidFill>
                <a:srgbClr val="000000"/>
              </a:solidFill>
              <a:latin typeface="Centaur"/>
            </a:endParaRPr>
          </a:p>
        </p:txBody>
      </p:sp>
      <p:pic>
        <p:nvPicPr>
          <p:cNvPr id="140" name="Picture 4" descr="j0291005"/>
          <p:cNvPicPr/>
          <p:nvPr/>
        </p:nvPicPr>
        <p:blipFill>
          <a:blip r:embed="rId1"/>
          <a:stretch/>
        </p:blipFill>
        <p:spPr>
          <a:xfrm>
            <a:off x="7696080" y="5105520"/>
            <a:ext cx="84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53:24Z</dcterms:created>
  <dc:creator>meanderson</dc:creator>
  <dc:description/>
  <dc:language>en-US</dc:language>
  <cp:lastModifiedBy>Tiffany Kiramidjian</cp:lastModifiedBy>
  <dcterms:modified xsi:type="dcterms:W3CDTF">2011-05-04T22:34:14Z</dcterms:modified>
  <cp:revision>114</cp:revision>
  <dc:subject/>
  <dc:title>Money Management</dc:title>
</cp:coreProperties>
</file>